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260013" cy="61198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3000" y="244080"/>
            <a:ext cx="9233640" cy="102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3000" y="1432080"/>
            <a:ext cx="923364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3000" y="3286080"/>
            <a:ext cx="923364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13000" y="244080"/>
            <a:ext cx="9233640" cy="102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13000" y="1432080"/>
            <a:ext cx="450576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244480" y="1432080"/>
            <a:ext cx="450576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13000" y="3286080"/>
            <a:ext cx="450576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244480" y="3286080"/>
            <a:ext cx="450576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3000" y="244080"/>
            <a:ext cx="9233640" cy="102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13000" y="1432080"/>
            <a:ext cx="297288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634920" y="1432080"/>
            <a:ext cx="297288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756840" y="1432080"/>
            <a:ext cx="297288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513000" y="3286080"/>
            <a:ext cx="297288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634920" y="3286080"/>
            <a:ext cx="297288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756840" y="3286080"/>
            <a:ext cx="297288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13000" y="244080"/>
            <a:ext cx="9233640" cy="102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513000" y="1432080"/>
            <a:ext cx="9233640" cy="354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13000" y="244080"/>
            <a:ext cx="9233640" cy="102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13000" y="1432080"/>
            <a:ext cx="9233640" cy="354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13000" y="244080"/>
            <a:ext cx="9233640" cy="102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13000" y="1432080"/>
            <a:ext cx="4505760" cy="354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244480" y="1432080"/>
            <a:ext cx="4505760" cy="354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3000" y="244080"/>
            <a:ext cx="9233640" cy="102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513000" y="244080"/>
            <a:ext cx="9233640" cy="47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3000" y="244080"/>
            <a:ext cx="9233640" cy="102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3000" y="1432080"/>
            <a:ext cx="450576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44480" y="1432080"/>
            <a:ext cx="4505760" cy="354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3000" y="3286080"/>
            <a:ext cx="450576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3000" y="244080"/>
            <a:ext cx="9233640" cy="102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3000" y="1432080"/>
            <a:ext cx="4505760" cy="354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44480" y="1432080"/>
            <a:ext cx="450576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244480" y="3286080"/>
            <a:ext cx="450576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13000" y="244080"/>
            <a:ext cx="9233640" cy="102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13000" y="1432080"/>
            <a:ext cx="450576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44480" y="1432080"/>
            <a:ext cx="450576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13000" y="3286080"/>
            <a:ext cx="923364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Group 190" descr=""/>
          <p:cNvPicPr/>
          <p:nvPr/>
        </p:nvPicPr>
        <p:blipFill>
          <a:blip r:embed="rId2"/>
          <a:stretch/>
        </p:blipFill>
        <p:spPr>
          <a:xfrm>
            <a:off x="781200" y="1079640"/>
            <a:ext cx="8405640" cy="3968640"/>
          </a:xfrm>
          <a:prstGeom prst="rect">
            <a:avLst/>
          </a:prstGeom>
          <a:ln w="0">
            <a:noFill/>
          </a:ln>
        </p:spPr>
      </p:pic>
      <p:sp>
        <p:nvSpPr>
          <p:cNvPr id="1" name="Text Box 201"/>
          <p:cNvSpPr/>
          <p:nvPr/>
        </p:nvSpPr>
        <p:spPr>
          <a:xfrm>
            <a:off x="2178000" y="5076720"/>
            <a:ext cx="59022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全てのオブジェクトをピンクの破線内におさめてください。封筒の周囲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10mm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とベロ（フタ）部分には印刷することができません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製袋された封筒に印刷するため、貼り合わせ部分の段差（下図の灰色の破線）にかかるベタなどのデザインはかすれる可能性があり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2" descr=""/>
          <p:cNvPicPr/>
          <p:nvPr/>
        </p:nvPicPr>
        <p:blipFill>
          <a:blip r:embed="rId3"/>
          <a:stretch/>
        </p:blipFill>
        <p:spPr>
          <a:xfrm>
            <a:off x="2717640" y="757080"/>
            <a:ext cx="4824720" cy="277920"/>
          </a:xfrm>
          <a:prstGeom prst="rect">
            <a:avLst/>
          </a:prstGeom>
          <a:ln w="0">
            <a:noFill/>
          </a:ln>
        </p:spPr>
      </p:pic>
      <p:grpSp>
        <p:nvGrpSpPr>
          <p:cNvPr id="3" name="グループ化 3"/>
          <p:cNvGrpSpPr/>
          <p:nvPr/>
        </p:nvGrpSpPr>
        <p:grpSpPr>
          <a:xfrm>
            <a:off x="87480" y="1415880"/>
            <a:ext cx="8748720" cy="3262320"/>
            <a:chOff x="87480" y="1415880"/>
            <a:chExt cx="8748720" cy="3262320"/>
          </a:xfrm>
        </p:grpSpPr>
        <p:grpSp>
          <p:nvGrpSpPr>
            <p:cNvPr id="4" name="グループ化 3"/>
            <p:cNvGrpSpPr/>
            <p:nvPr/>
          </p:nvGrpSpPr>
          <p:grpSpPr>
            <a:xfrm>
              <a:off x="1435680" y="1415880"/>
              <a:ext cx="7400520" cy="3262320"/>
              <a:chOff x="1435680" y="1415880"/>
              <a:chExt cx="7400520" cy="3262320"/>
            </a:xfrm>
          </p:grpSpPr>
          <p:pic>
            <p:nvPicPr>
              <p:cNvPr id="5" name="Picture 13" descr=""/>
              <p:cNvPicPr/>
              <p:nvPr/>
            </p:nvPicPr>
            <p:blipFill>
              <a:blip r:embed="rId4"/>
              <a:stretch/>
            </p:blipFill>
            <p:spPr>
              <a:xfrm rot="16200000">
                <a:off x="3506760" y="-655200"/>
                <a:ext cx="3258000" cy="74005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" name="グループ化 1"/>
              <p:cNvGrpSpPr/>
              <p:nvPr/>
            </p:nvGrpSpPr>
            <p:grpSpPr>
              <a:xfrm>
                <a:off x="1446840" y="1438200"/>
                <a:ext cx="7378560" cy="3240000"/>
                <a:chOff x="1446840" y="1438200"/>
                <a:chExt cx="7378560" cy="3240000"/>
              </a:xfrm>
            </p:grpSpPr>
            <p:sp>
              <p:nvSpPr>
                <p:cNvPr id="7" name="Rectangle 102"/>
                <p:cNvSpPr/>
                <p:nvPr/>
              </p:nvSpPr>
              <p:spPr>
                <a:xfrm rot="16200000">
                  <a:off x="3516120" y="-630720"/>
                  <a:ext cx="3240000" cy="7378560"/>
                </a:xfrm>
                <a:prstGeom prst="rect">
                  <a:avLst/>
                </a:prstGeom>
                <a:noFill/>
                <a:ln w="6480">
                  <a:solidFill>
                    <a:srgbClr val="0000ff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4160" rIns="74160" tIns="9000" bIns="9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" name="Rectangle 142"/>
                <p:cNvSpPr/>
                <p:nvPr/>
              </p:nvSpPr>
              <p:spPr>
                <a:xfrm rot="16200000">
                  <a:off x="3981240" y="261000"/>
                  <a:ext cx="2519280" cy="5578560"/>
                </a:xfrm>
                <a:prstGeom prst="rect">
                  <a:avLst/>
                </a:prstGeom>
                <a:noFill/>
                <a:ln w="6480">
                  <a:solidFill>
                    <a:srgbClr val="ff00ff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" name="グループ化 1"/>
            <p:cNvGrpSpPr/>
            <p:nvPr/>
          </p:nvGrpSpPr>
          <p:grpSpPr>
            <a:xfrm>
              <a:off x="87480" y="2079720"/>
              <a:ext cx="1031760" cy="2421000"/>
              <a:chOff x="87480" y="2079720"/>
              <a:chExt cx="1031760" cy="2421000"/>
            </a:xfrm>
          </p:grpSpPr>
          <p:sp>
            <p:nvSpPr>
              <p:cNvPr id="10" name="AutoShape 199"/>
              <p:cNvSpPr/>
              <p:nvPr/>
            </p:nvSpPr>
            <p:spPr>
              <a:xfrm>
                <a:off x="90360" y="3565800"/>
                <a:ext cx="1028880" cy="934920"/>
              </a:xfrm>
              <a:prstGeom prst="wedgeRoundRectCallout">
                <a:avLst>
                  <a:gd name="adj1" fmla="val 179013"/>
                  <a:gd name="adj2" fmla="val -51111"/>
                  <a:gd name="adj3" fmla="val 16667"/>
                </a:avLst>
              </a:prstGeom>
              <a:solidFill>
                <a:srgbClr val="ffff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4160" rIns="74160" tIns="9000" bIns="90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34920"/>
                    <a:tab algn="l" pos="1870200"/>
                    <a:tab algn="l" pos="2805120"/>
                    <a:tab algn="l" pos="3740040"/>
                    <a:tab algn="l" pos="4675320"/>
                    <a:tab algn="l" pos="5610240"/>
                    <a:tab algn="l" pos="6545160"/>
                    <a:tab algn="l" pos="7480440"/>
                    <a:tab algn="l" pos="8415360"/>
                    <a:tab algn="l" pos="9350280"/>
                    <a:tab algn="l" pos="10285560"/>
                  </a:tabLst>
                </a:pPr>
                <a:r>
                  <a:rPr b="0" lang="ja-JP" sz="1000" spc="-1" strike="noStrike">
                    <a:solidFill>
                      <a:srgbClr val="000000"/>
                    </a:solidFill>
                    <a:latin typeface="ＭＳ Ｐゴシック"/>
                  </a:rPr>
                  <a:t>全てのオブジェクトをピンクの破線内におさめてください。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AutoShape 200"/>
              <p:cNvSpPr/>
              <p:nvPr/>
            </p:nvSpPr>
            <p:spPr>
              <a:xfrm>
                <a:off x="87480" y="2079720"/>
                <a:ext cx="1028880" cy="571320"/>
              </a:xfrm>
              <a:prstGeom prst="wedgeRoundRectCallout">
                <a:avLst>
                  <a:gd name="adj1" fmla="val 80430"/>
                  <a:gd name="adj2" fmla="val -43000"/>
                  <a:gd name="adj3" fmla="val 16667"/>
                </a:avLst>
              </a:prstGeom>
              <a:solidFill>
                <a:srgbClr val="ffffff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4160" rIns="74160" tIns="9000" bIns="90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34920"/>
                    <a:tab algn="l" pos="1870200"/>
                    <a:tab algn="l" pos="2805120"/>
                    <a:tab algn="l" pos="3740040"/>
                    <a:tab algn="l" pos="4675320"/>
                    <a:tab algn="l" pos="5610240"/>
                    <a:tab algn="l" pos="6545160"/>
                    <a:tab algn="l" pos="7480440"/>
                    <a:tab algn="l" pos="8415360"/>
                    <a:tab algn="l" pos="9350280"/>
                    <a:tab algn="l" pos="10285560"/>
                  </a:tabLst>
                </a:pPr>
                <a:r>
                  <a:rPr b="0" lang="ja-JP" sz="1000" spc="-1" strike="noStrike">
                    <a:solidFill>
                      <a:srgbClr val="000000"/>
                    </a:solidFill>
                    <a:latin typeface="ＭＳ Ｐゴシック"/>
                  </a:rPr>
                  <a:t>青い破線が仕上がり位置となります。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34920"/>
                    <a:tab algn="l" pos="1870200"/>
                    <a:tab algn="l" pos="2805120"/>
                    <a:tab algn="l" pos="3740040"/>
                    <a:tab algn="l" pos="4675320"/>
                    <a:tab algn="l" pos="5610240"/>
                    <a:tab algn="l" pos="6545160"/>
                    <a:tab algn="l" pos="7480440"/>
                    <a:tab algn="l" pos="8415360"/>
                    <a:tab algn="l" pos="9350280"/>
                    <a:tab algn="l" pos="1028556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2" name="グラフィックス 4" descr=""/>
          <p:cNvPicPr/>
          <p:nvPr/>
        </p:nvPicPr>
        <p:blipFill>
          <a:blip r:embed="rId5"/>
          <a:stretch/>
        </p:blipFill>
        <p:spPr>
          <a:xfrm>
            <a:off x="3159000" y="141120"/>
            <a:ext cx="3943440" cy="505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/>
  <dc:description/>
  <dc:language>en-US</dc:language>
  <cp:lastModifiedBy>柴田 宏</cp:lastModifiedBy>
  <dcterms:modified xsi:type="dcterms:W3CDTF">2024-11-19T02:50:42Z</dcterms:modified>
  <cp:revision>31</cp:revision>
  <dc:subject/>
  <dc:title>PowerPoint プレゼンテーション</dc:title>
</cp:coreProperties>
</file>