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19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8623080" cy="1191708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118"/>
          <p:cNvSpPr/>
          <p:nvPr/>
        </p:nvSpPr>
        <p:spPr>
          <a:xfrm>
            <a:off x="5601240" y="79128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クラフト（はく離紙のり付き）、再生紙クリーム、再生紙スカ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グループ化 1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sp>
          <p:nvSpPr>
            <p:cNvPr id="18" name="AutoShape 11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" name="Group 120"/>
            <p:cNvGrpSpPr/>
            <p:nvPr/>
          </p:nvGrpSpPr>
          <p:grpSpPr>
            <a:xfrm>
              <a:off x="1439640" y="1440000"/>
              <a:ext cx="8640720" cy="11950560"/>
              <a:chOff x="1439640" y="1440000"/>
              <a:chExt cx="8640720" cy="11950560"/>
            </a:xfrm>
          </p:grpSpPr>
          <p:sp>
            <p:nvSpPr>
              <p:cNvPr id="20" name="Rectangle 72"/>
              <p:cNvSpPr/>
              <p:nvPr/>
            </p:nvSpPr>
            <p:spPr>
              <a:xfrm>
                <a:off x="1798200" y="1798560"/>
                <a:ext cx="7917120" cy="1122840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504800"/>
                    <a:tab algn="l" pos="3009960"/>
                    <a:tab algn="l" pos="4514760"/>
                    <a:tab algn="l" pos="6019920"/>
                    <a:tab algn="l" pos="7524720"/>
                    <a:tab algn="l" pos="9029880"/>
                    <a:tab algn="l" pos="1053468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52"/>
              <p:cNvSpPr/>
              <p:nvPr/>
            </p:nvSpPr>
            <p:spPr>
              <a:xfrm>
                <a:off x="1439640" y="1440000"/>
                <a:ext cx="8640720" cy="1195056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AutoShape 112"/>
            <p:cNvSpPr/>
            <p:nvPr/>
          </p:nvSpPr>
          <p:spPr>
            <a:xfrm>
              <a:off x="98280" y="3571920"/>
              <a:ext cx="1028520" cy="892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" name="グラフィックス 2" descr=""/>
          <p:cNvPicPr/>
          <p:nvPr/>
        </p:nvPicPr>
        <p:blipFill>
          <a:blip r:embed="rId3"/>
          <a:stretch/>
        </p:blipFill>
        <p:spPr>
          <a:xfrm>
            <a:off x="3951360" y="244440"/>
            <a:ext cx="3619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32:34Z</dcterms:modified>
  <cp:revision>23</cp:revision>
  <dc:subject/>
  <dc:title>スライド 1</dc:title>
</cp:coreProperties>
</file>