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33"/>
          <p:cNvSpPr/>
          <p:nvPr/>
        </p:nvSpPr>
        <p:spPr>
          <a:xfrm rot="10800000">
            <a:off x="1439640" y="202680"/>
            <a:ext cx="8451720" cy="1236960"/>
          </a:xfrm>
          <a:custGeom>
            <a:avLst/>
            <a:gdLst/>
            <a:ahLst/>
            <a:rect l="l" t="t" r="r" b="b"/>
            <a:pathLst>
              <a:path w="5324" h="779">
                <a:moveTo>
                  <a:pt x="5096" y="779"/>
                </a:moveTo>
                <a:lnTo>
                  <a:pt x="226" y="779"/>
                </a:lnTo>
                <a:lnTo>
                  <a:pt x="0" y="0"/>
                </a:lnTo>
                <a:lnTo>
                  <a:pt x="5324" y="0"/>
                </a:lnTo>
                <a:lnTo>
                  <a:pt x="5096" y="779"/>
                </a:lnTo>
                <a:close/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Group 115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9186840" cy="504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97"/>
          <p:cNvSpPr/>
          <p:nvPr/>
        </p:nvSpPr>
        <p:spPr>
          <a:xfrm>
            <a:off x="2743200" y="6192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1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2"/>
          <p:cNvGrpSpPr/>
          <p:nvPr/>
        </p:nvGrpSpPr>
        <p:grpSpPr>
          <a:xfrm>
            <a:off x="98280" y="1440000"/>
            <a:ext cx="9799920" cy="4319280"/>
            <a:chOff x="98280" y="1440000"/>
            <a:chExt cx="9799920" cy="4319280"/>
          </a:xfrm>
        </p:grpSpPr>
        <p:grpSp>
          <p:nvGrpSpPr>
            <p:cNvPr id="6" name="グループ化 1"/>
            <p:cNvGrpSpPr/>
            <p:nvPr/>
          </p:nvGrpSpPr>
          <p:grpSpPr>
            <a:xfrm>
              <a:off x="5784840" y="1876320"/>
              <a:ext cx="3237120" cy="1617480"/>
              <a:chOff x="5784840" y="1876320"/>
              <a:chExt cx="3237120" cy="1617480"/>
            </a:xfrm>
          </p:grpSpPr>
          <p:sp>
            <p:nvSpPr>
              <p:cNvPr id="7" name="Freeform 174"/>
              <p:cNvSpPr/>
              <p:nvPr/>
            </p:nvSpPr>
            <p:spPr>
              <a:xfrm>
                <a:off x="5784840" y="1876320"/>
                <a:ext cx="3237120" cy="161748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0" y="487"/>
                    </a:moveTo>
                    <a:cubicBezTo>
                      <a:pt x="0" y="500"/>
                      <a:pt x="10" y="510"/>
                      <a:pt x="23" y="510"/>
                    </a:cubicBezTo>
                    <a:cubicBezTo>
                      <a:pt x="998" y="510"/>
                      <a:pt x="998" y="510"/>
                      <a:pt x="998" y="510"/>
                    </a:cubicBezTo>
                    <a:cubicBezTo>
                      <a:pt x="1010" y="510"/>
                      <a:pt x="1020" y="500"/>
                      <a:pt x="1020" y="487"/>
                    </a:cubicBezTo>
                    <a:cubicBezTo>
                      <a:pt x="1020" y="22"/>
                      <a:pt x="1020" y="22"/>
                      <a:pt x="1020" y="22"/>
                    </a:cubicBezTo>
                    <a:cubicBezTo>
                      <a:pt x="1020" y="10"/>
                      <a:pt x="1010" y="0"/>
                      <a:pt x="998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0" y="0"/>
                      <a:pt x="0" y="10"/>
                      <a:pt x="0" y="22"/>
                    </a:cubicBez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78"/>
              <p:cNvSpPr/>
              <p:nvPr/>
            </p:nvSpPr>
            <p:spPr>
              <a:xfrm>
                <a:off x="7334280" y="2597040"/>
                <a:ext cx="120600" cy="1155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1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8" y="31"/>
                      <a:pt x="9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4" y="37"/>
                    </a:cubicBezTo>
                    <a:cubicBezTo>
                      <a:pt x="24" y="37"/>
                      <a:pt x="24" y="37"/>
                      <a:pt x="24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5" y="33"/>
                      <a:pt x="25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20" y="24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4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9"/>
                      <a:pt x="19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9" y="23"/>
                      <a:pt x="14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4" y="34"/>
                      <a:pt x="35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79"/>
              <p:cNvSpPr/>
              <p:nvPr/>
            </p:nvSpPr>
            <p:spPr>
              <a:xfrm>
                <a:off x="7461360" y="259704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8"/>
                      <a:pt x="24" y="38"/>
                      <a:pt x="24" y="38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9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9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80"/>
              <p:cNvSpPr/>
              <p:nvPr/>
            </p:nvSpPr>
            <p:spPr>
              <a:xfrm>
                <a:off x="7588440" y="2597040"/>
                <a:ext cx="123840" cy="1188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10"/>
                      <a:pt x="7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8"/>
                    </a:cubicBezTo>
                    <a:cubicBezTo>
                      <a:pt x="32" y="25"/>
                      <a:pt x="31" y="33"/>
                      <a:pt x="29" y="36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7" y="30"/>
                      <a:pt x="27" y="26"/>
                      <a:pt x="28" y="19"/>
                    </a:cubicBezTo>
                    <a:cubicBezTo>
                      <a:pt x="18" y="19"/>
                      <a:pt x="18" y="19"/>
                      <a:pt x="18" y="19"/>
                    </a:cubicBezTo>
                    <a:cubicBezTo>
                      <a:pt x="17" y="29"/>
                      <a:pt x="12" y="35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1"/>
                      <a:pt x="13" y="27"/>
                      <a:pt x="14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6"/>
                      <a:pt x="26" y="9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9" y="5"/>
                      <a:pt x="34" y="11"/>
                      <a:pt x="39" y="15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Rectangle 107"/>
            <p:cNvSpPr/>
            <p:nvPr/>
          </p:nvSpPr>
          <p:spPr>
            <a:xfrm>
              <a:off x="143820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95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9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" name="グラフィックス 2" descr=""/>
          <p:cNvPicPr/>
          <p:nvPr/>
        </p:nvPicPr>
        <p:blipFill>
          <a:blip r:embed="rId4"/>
          <a:stretch/>
        </p:blipFill>
        <p:spPr>
          <a:xfrm>
            <a:off x="3541680" y="411120"/>
            <a:ext cx="42577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10:46Z</dcterms:modified>
  <cp:revision>25</cp:revision>
  <dc:subject/>
  <dc:title>PowerPoint プレゼンテーション</dc:title>
</cp:coreProperties>
</file>