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51"/>
          <p:cNvSpPr/>
          <p:nvPr/>
        </p:nvSpPr>
        <p:spPr>
          <a:xfrm>
            <a:off x="647640" y="1035036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62" descr=""/>
          <p:cNvPicPr/>
          <p:nvPr/>
        </p:nvPicPr>
        <p:blipFill>
          <a:blip r:embed="rId2"/>
          <a:stretch/>
        </p:blipFill>
        <p:spPr>
          <a:xfrm>
            <a:off x="1440000" y="1422360"/>
            <a:ext cx="4346280" cy="849636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61"/>
          <p:cNvGrpSpPr/>
          <p:nvPr/>
        </p:nvGrpSpPr>
        <p:grpSpPr>
          <a:xfrm>
            <a:off x="98280" y="1438200"/>
            <a:ext cx="5661000" cy="8458200"/>
            <a:chOff x="98280" y="1438200"/>
            <a:chExt cx="5661000" cy="8458200"/>
          </a:xfrm>
        </p:grpSpPr>
        <p:grpSp>
          <p:nvGrpSpPr>
            <p:cNvPr id="17" name="Group 160"/>
            <p:cNvGrpSpPr/>
            <p:nvPr/>
          </p:nvGrpSpPr>
          <p:grpSpPr>
            <a:xfrm>
              <a:off x="1440000" y="1438200"/>
              <a:ext cx="4319280" cy="8458200"/>
              <a:chOff x="1440000" y="1438200"/>
              <a:chExt cx="4319280" cy="8458200"/>
            </a:xfrm>
          </p:grpSpPr>
          <p:sp>
            <p:nvSpPr>
              <p:cNvPr id="18" name="Rectangle 81"/>
              <p:cNvSpPr/>
              <p:nvPr/>
            </p:nvSpPr>
            <p:spPr>
              <a:xfrm>
                <a:off x="1800360" y="1782720"/>
                <a:ext cx="3598560" cy="77392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17"/>
              <p:cNvSpPr/>
              <p:nvPr/>
            </p:nvSpPr>
            <p:spPr>
              <a:xfrm>
                <a:off x="3422520" y="1782720"/>
                <a:ext cx="1971720" cy="7192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58760"/>
                    <a:tab algn="l" pos="2117880"/>
                    <a:tab algn="l" pos="3176640"/>
                    <a:tab algn="l" pos="4235400"/>
                    <a:tab algn="l" pos="5294160"/>
                    <a:tab algn="l" pos="6353280"/>
                    <a:tab algn="l" pos="7412040"/>
                    <a:tab algn="l" pos="8470800"/>
                    <a:tab algn="l" pos="9529920"/>
                    <a:tab algn="l" pos="10588680"/>
                  </a:tabLst>
                </a:pPr>
                <a:r>
                  <a:rPr b="1" lang="ja-JP" sz="800" spc="-1" strike="noStrike">
                    <a:solidFill>
                      <a:srgbClr val="808080"/>
                    </a:solidFill>
                    <a:latin typeface="Arial"/>
                  </a:rPr>
                  <a:t>郵便番号枠付き封筒をお選びの場合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58760"/>
                    <a:tab algn="l" pos="2117880"/>
                    <a:tab algn="l" pos="3176640"/>
                    <a:tab algn="l" pos="4235400"/>
                    <a:tab algn="l" pos="5294160"/>
                    <a:tab algn="l" pos="6353280"/>
                    <a:tab algn="l" pos="7412040"/>
                    <a:tab algn="l" pos="8470800"/>
                    <a:tab algn="l" pos="9529920"/>
                    <a:tab algn="l" pos="10588680"/>
                  </a:tabLst>
                </a:pPr>
                <a:r>
                  <a:rPr b="1" lang="ja-JP" sz="800" spc="-1" strike="noStrike">
                    <a:solidFill>
                      <a:srgbClr val="808080"/>
                    </a:solidFill>
                    <a:latin typeface="Arial"/>
                  </a:rPr>
                  <a:t>この部分は避けてお作り下さい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80"/>
              <p:cNvSpPr/>
              <p:nvPr/>
            </p:nvSpPr>
            <p:spPr>
              <a:xfrm>
                <a:off x="1440000" y="1438200"/>
                <a:ext cx="4319280" cy="845820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AutoShape 149"/>
            <p:cNvSpPr/>
            <p:nvPr/>
          </p:nvSpPr>
          <p:spPr>
            <a:xfrm>
              <a:off x="98280" y="3571920"/>
              <a:ext cx="1028880" cy="803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150"/>
            <p:cNvSpPr/>
            <p:nvPr/>
          </p:nvSpPr>
          <p:spPr>
            <a:xfrm>
              <a:off x="98280" y="2085840"/>
              <a:ext cx="1028880" cy="57168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" name="グラフィックス 2" descr=""/>
          <p:cNvPicPr/>
          <p:nvPr/>
        </p:nvPicPr>
        <p:blipFill>
          <a:blip r:embed="rId3"/>
          <a:stretch/>
        </p:blipFill>
        <p:spPr>
          <a:xfrm>
            <a:off x="1628640" y="517680"/>
            <a:ext cx="3943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45:42Z</dcterms:modified>
  <cp:revision>26</cp:revision>
  <dc:subject/>
  <dc:title>スライド 1</dc:title>
</cp:coreProperties>
</file>